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8EDCBA-F1AE-4E64-BD4E-2E1162D82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40200" y="490680"/>
            <a:ext cx="431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Linux Forum / Embedded Linux Conference Europ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Satoru Ueda</cp:lastModifiedBy>
  <cp:revision>0</cp:revision>
  <dc:subject/>
  <dc:title>スライド 1</dc:title>
</cp:coreProperties>
</file>